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24172"/>
        <c:axId val="69279896"/>
      </c:barChart>
      <c:catAx>
        <c:axId val="77924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9896"/>
        <c:crosses val="autoZero"/>
        <c:auto val="1"/>
        <c:lblAlgn val="ctr"/>
        <c:lblOffset val="100"/>
        <c:noMultiLvlLbl val="0"/>
      </c:catAx>
      <c:valAx>
        <c:axId val="69279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4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9AC-3091-4822-A50D-52BE1106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44D-79F2-4FE9-9583-45EA3FDD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DD3-30CB-455A-B372-2A2AFD7E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2A4-769D-467F-9535-4C916987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1D1-9F70-4BAC-A740-FDF2D58F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9AD-BAAD-4B17-A687-FF727845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9CF-D7CA-4479-A355-7BE657E1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72C-9273-4F56-A5E6-896C6EA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B3D-1C2D-4483-9E3B-99592D8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200-2BA2-4831-B5B5-C5F899C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F1D-A2A8-4120-A889-5DFC218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938-7B66-4D5F-BCA4-6E4D3AD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BC37D-308D-438D-8F41-973B7C4E44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