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540183"/>
        <c:axId val="11882467"/>
      </c:barChart>
      <c:catAx>
        <c:axId val="135401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82467"/>
        <c:crosses val="autoZero"/>
        <c:auto val="1"/>
        <c:lblAlgn val="ctr"/>
        <c:lblOffset val="100"/>
        <c:noMultiLvlLbl val="0"/>
      </c:catAx>
      <c:valAx>
        <c:axId val="11882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5401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39D-D54B-4BBE-8196-611F240B1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624D-0460-4C18-B56C-9F22D524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85C0-537A-40E5-9F6E-09BE3C4C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168A-7CED-4A64-968C-B069B7902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F26A-D260-44B7-A6A2-4D814DD2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BD10-84B3-425C-AD44-EC2F62AD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C44F-9793-47F3-B2F5-62BA7FDF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664-14DF-44AA-A21A-521430C4D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4B23-0395-4423-B030-2DFDC1F2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37C7-5684-40EE-96D8-4C03B2E8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186-CCDE-4253-A6C7-3BFED722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0B51-757A-4346-81E8-F02219E8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3966F8-7CCA-4D22-BED8-A271B03ED1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