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40756"/>
        <c:axId val="63938098"/>
      </c:barChart>
      <c:catAx>
        <c:axId val="92440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38098"/>
        <c:crosses val="autoZero"/>
        <c:auto val="1"/>
        <c:lblAlgn val="ctr"/>
        <c:lblOffset val="100"/>
        <c:noMultiLvlLbl val="0"/>
      </c:catAx>
      <c:valAx>
        <c:axId val="63938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40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62B-8D3C-4512-BB29-4E187F35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5A1-F0D6-47D5-B0AC-79AA4D48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8A9-8A7D-4203-BDE7-733405B9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7B2-4434-4FB5-8B8E-D02FF5D4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FB8-1A79-4D51-A62C-ED8ECF4D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497-A965-4E8D-BD77-99E5F754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1E8-E3F4-4B1C-BB60-12DBBD6A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F13-7F08-4C25-9073-0CC35F42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345-E6E4-4C6D-8468-FD5D637D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2D0-EBDE-481B-BE33-748C3777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06A-E62E-4340-A894-5C0AFB8F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B38-7EEB-46CA-8E1F-C9E7ECE5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1A104-EF3D-4980-9F78-D8701B16CA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