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3532"/>
        <c:axId val="29367506"/>
      </c:barChart>
      <c:catAx>
        <c:axId val="5763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67506"/>
        <c:crosses val="autoZero"/>
        <c:auto val="1"/>
        <c:lblAlgn val="ctr"/>
        <c:lblOffset val="100"/>
        <c:noMultiLvlLbl val="0"/>
      </c:catAx>
      <c:valAx>
        <c:axId val="29367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E73-5271-4885-B2B9-3DC25465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3F4-2F39-4BA9-AB2E-5E44AFF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227-B6EA-4B04-802A-39E5DC6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ECB-51F4-4A3B-8EFC-71265055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853-E4B6-4472-8E5D-50C35533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1E6-1DA0-4CE7-99CD-36F8C11E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28B-AF13-46AF-A403-1683CF3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FD7-7C04-400E-AD03-AE117727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CC2-7BB6-4D0F-83F8-30232FAA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3D9-6B60-4D18-A427-88318A71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F2F-F33B-455B-A743-E72F33A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A9E-2F7B-4161-A549-1F75671C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6E286-1725-4CCE-BF29-265FA4199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