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31938"/>
        <c:axId val="3650004"/>
      </c:barChart>
      <c:catAx>
        <c:axId val="58631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004"/>
        <c:crosses val="autoZero"/>
        <c:auto val="1"/>
        <c:lblAlgn val="ctr"/>
        <c:lblOffset val="100"/>
        <c:noMultiLvlLbl val="0"/>
      </c:catAx>
      <c:valAx>
        <c:axId val="3650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31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5B5-7C54-4E12-9F93-5BE924E2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10C-F129-4B64-8D97-21B7E1E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1E1-92FD-4C38-9376-4FB7FC14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97E-39DC-47D7-BF64-ADDFD0AA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81A-5EC6-4B28-8205-93C84E59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ED7-E1C5-42BA-9421-73EF807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737-EB06-4EA5-BC9E-73BC1686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DC2-EFF6-4911-8021-217EA27B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AEA-D946-46A5-AD51-3825F07A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698-D3FE-4889-B8BF-0FA045C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5F8-D6FB-4517-809E-AC64CAE0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475-7BF8-44BD-B22C-ECEEF15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7D73D-F5D6-46AF-A7D8-0F4CD1ECAF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