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420613"/>
        <c:axId val="62984765"/>
      </c:barChart>
      <c:catAx>
        <c:axId val="47420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84765"/>
        <c:crosses val="autoZero"/>
        <c:auto val="1"/>
        <c:lblAlgn val="ctr"/>
        <c:lblOffset val="100"/>
        <c:noMultiLvlLbl val="0"/>
      </c:catAx>
      <c:valAx>
        <c:axId val="629847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20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AC06-32D9-484D-BB9F-9140DEE1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D10A-F2E2-4166-B75D-0657E76E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6409-481E-4A0B-BFFB-0D680092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F870-2EE4-4CC1-BA26-2C353636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DDD-3328-4C51-80FF-538F3E4E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9313-7A37-4795-A2B3-2DFE7AC3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9890-5F43-4653-BAD0-619E84DE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9E31-0AE0-414B-BDE7-5908B20A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7C18-6A17-41CB-9B36-FF63538B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A94E-57BD-46B0-9CB9-3E07480B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2DC0-907B-49F4-81B0-217BF5AA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FC23-6E3E-4832-ABF7-4819B7F7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D1833-CF28-4765-A812-4327B93451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