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466976"/>
        <c:axId val="26775951"/>
      </c:barChart>
      <c:catAx>
        <c:axId val="174669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775951"/>
        <c:crosses val="autoZero"/>
        <c:auto val="1"/>
        <c:lblAlgn val="ctr"/>
        <c:lblOffset val="100"/>
        <c:noMultiLvlLbl val="0"/>
      </c:catAx>
      <c:valAx>
        <c:axId val="267759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4669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AD2A-FB15-491A-90D2-A4206E7C5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D152-ED92-4756-B77A-D9708C2C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8C23-30F8-4A73-8EEA-F7E70F2AF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8761-AF73-40C3-94C9-C57379705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EF7D-FE2B-4C80-84D2-804115F8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6920-5B6C-4E89-9495-081FF145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7C8E-D1A8-482E-B508-AB4D4927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4401-F0AA-4FB7-AB24-33AE9D5D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DE03-F361-495F-A6E2-51916409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8C03-9EDE-47FD-ADD3-93E35F84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EBDD-75FC-4BE8-8FC1-6C668105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24F4-F7E5-468C-BFB6-83DB9B1B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FD66F9-5367-41B2-A638-BC989CA808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