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54558"/>
        <c:axId val="80074597"/>
      </c:barChart>
      <c:catAx>
        <c:axId val="80654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74597"/>
        <c:crosses val="autoZero"/>
        <c:auto val="1"/>
        <c:lblAlgn val="ctr"/>
        <c:lblOffset val="100"/>
        <c:noMultiLvlLbl val="0"/>
      </c:catAx>
      <c:valAx>
        <c:axId val="80074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54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82E-ED43-4873-BD60-B8CD2626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7B3-C409-4186-AB58-2FF1EB4E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F45-C37A-4620-AA77-2E2C9B47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5D9-6026-4A1B-8A94-DCC83DE1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EF7-3CBD-4353-8D33-0D0D585E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000-4E96-4A58-A91D-7A316102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C30-C24F-47C5-B5B1-77382C1E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4BA-2D2C-4577-AB93-88BF396F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6AB-4044-44E3-BE74-76624136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7F3-27F9-44E3-BE8C-0A8EBFC1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78D-BD04-45AD-B6FF-7C32AFF0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B4C-3996-44B9-AEB0-7F956717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31668-AE95-47DB-B304-9EFCB77A48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