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12168"/>
        <c:axId val="44365283"/>
      </c:barChart>
      <c:catAx>
        <c:axId val="805121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65283"/>
        <c:crosses val="autoZero"/>
        <c:auto val="1"/>
        <c:lblAlgn val="ctr"/>
        <c:lblOffset val="100"/>
        <c:noMultiLvlLbl val="0"/>
      </c:catAx>
      <c:valAx>
        <c:axId val="44365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121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5A09-515F-4461-A474-6E255C75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076-DC75-4456-8652-8C3D1E3A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1E5-517C-48D5-9C28-353C2E27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BD4-7286-4200-AC95-499B7DBE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1A2E-16BC-4B25-8C4F-DDC6239A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9B0E-6660-4BB4-922F-293203E0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070B-8725-4A91-BA9A-38327F35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E1C-3BA9-47CF-A79C-19423BD5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8FC-30AC-469E-A2FC-26DF39D7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5CD5-6727-43BC-B2E6-9CDBB620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D57-B3BF-4232-A186-257FAB4B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9AF-C8FB-4D02-B386-AF3AC965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FB8D9-476B-4B3C-B9F4-6781ED4F66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