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11589"/>
        <c:axId val="34370959"/>
      </c:barChart>
      <c:catAx>
        <c:axId val="46111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70959"/>
        <c:crosses val="autoZero"/>
        <c:auto val="1"/>
        <c:lblAlgn val="ctr"/>
        <c:lblOffset val="100"/>
        <c:noMultiLvlLbl val="0"/>
      </c:catAx>
      <c:valAx>
        <c:axId val="34370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11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0E60-66EF-43BB-8002-69CADE42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D20-2FE1-492D-A116-2771888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B50-BA16-4C86-AA23-B7736605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9EE-0CFA-489A-8338-78988F63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EC2-5D21-4E47-86B0-B39D324C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1DA-22DF-42A5-BA55-7FEAAF1B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478F-AC52-4F94-AD08-92B81925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31C-A8EA-447E-AE3F-7EF7ABD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3F0-9ABE-48F3-9241-2D7C2185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099-B9FC-4583-B455-6E550520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76B7-BB07-45A3-A5D9-A05B8AA0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DCE-DA91-422B-A56B-F399CAFC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97794-15CF-4E57-A526-2AC37420B2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