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767137"/>
        <c:axId val="45578960"/>
      </c:barChart>
      <c:catAx>
        <c:axId val="817671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78960"/>
        <c:crosses val="autoZero"/>
        <c:auto val="1"/>
        <c:lblAlgn val="ctr"/>
        <c:lblOffset val="100"/>
        <c:noMultiLvlLbl val="0"/>
      </c:catAx>
      <c:valAx>
        <c:axId val="455789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671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E6A5-FB2A-455B-A7F3-C4C8D0DC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EFC9-0DFD-4113-A214-CEC8560C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68DC-081B-4CC4-9BA7-02601ACA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FA1D-015C-45D7-9B8E-23ECB3B8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BE94-C764-4032-A9AA-66155D56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DF6F-74E0-466A-B069-D032659B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C369-592A-4EC9-A9DE-10E83BA3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D533-6F84-46A8-B789-23BD231F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1690-4C65-433D-9D44-0B044303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C6BF-9764-4245-BC3C-B775A737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A55F-3D20-4116-8BA3-700AD167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9C5C-D003-4404-9C40-C0227950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208FA-8311-4DE6-B193-55FF3A0434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