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746951"/>
        <c:axId val="97358517"/>
      </c:barChart>
      <c:catAx>
        <c:axId val="137469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58517"/>
        <c:crosses val="autoZero"/>
        <c:auto val="1"/>
        <c:lblAlgn val="ctr"/>
        <c:lblOffset val="100"/>
        <c:noMultiLvlLbl val="0"/>
      </c:catAx>
      <c:valAx>
        <c:axId val="973585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7469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344C-08DF-4510-8A61-6520675C3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A931-2AD5-4FCF-9499-F76AF262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105F-2D81-4B8B-986D-E489A6D4F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4EEA-2FF1-4199-8654-C3E59F185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1CAC-2D63-4FA4-B4BA-55D2FDBD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D255-AC2A-472B-8210-8F898239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11A0-8293-4588-8E25-F78B6B73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E074-9E63-44B1-997A-9BFFF092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1540-4DE6-45EA-83E9-2CD1E0DD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AA89-8706-42F6-B679-B94D9ED9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FBCB-81A9-443A-9482-8641AC7F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779E-C946-4B3A-AE71-66DF5D46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0DD57D-F5CE-41D3-BA48-37343590D0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