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085"/>
        <c:axId val="23187740"/>
      </c:barChart>
      <c:catAx>
        <c:axId val="969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87740"/>
        <c:crosses val="autoZero"/>
        <c:auto val="1"/>
        <c:lblAlgn val="ctr"/>
        <c:lblOffset val="100"/>
        <c:noMultiLvlLbl val="0"/>
      </c:catAx>
      <c:valAx>
        <c:axId val="23187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C6F-E0D1-4104-9E4E-76BD0C78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F63-AC32-42C0-BEA9-B502FD83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997-1109-4B2C-B8DE-219950A6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BF5-98CA-4DDD-A385-9B63AE87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3B6-9CC1-42F8-9E80-BA13223D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1E2-41EE-44F2-8826-BA746A8D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F78-1B0C-438E-B65D-5A8F1DAF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257-C432-43AC-A461-5FF50379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581-6A71-4491-ADD8-2F4F5BCD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8AE-445C-44D8-AE44-1A881B8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9A9-B66B-4F90-A9D8-FEBD8275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BA6-F647-4B7E-8283-9539B69C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13BBB-D5A2-42AA-B0BE-BBBC6085FD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