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12931"/>
        <c:axId val="21906586"/>
      </c:barChart>
      <c:catAx>
        <c:axId val="26112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06586"/>
        <c:crosses val="autoZero"/>
        <c:auto val="1"/>
        <c:lblAlgn val="ctr"/>
        <c:lblOffset val="100"/>
        <c:noMultiLvlLbl val="0"/>
      </c:catAx>
      <c:valAx>
        <c:axId val="21906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12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43E-B3FE-4D85-B572-D318231C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AE1-9DBD-4918-B678-F93AABF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708-FA4B-4200-9BA9-B31B12C0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FC9-FE92-41B1-9449-8AF18D65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E6C-0306-4D24-8777-531A2857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5E7-158A-4C71-9C7F-354F04C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C1D-C715-4B63-ABA6-13300051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E8E-55E7-4BE8-ADD8-53EA7D8E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8F8-C83A-4315-8645-ABAF0DCB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859-295E-463D-833F-5B65E35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91B-3DDD-40CA-8559-31C3E78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BC0-FF8C-467A-B5E0-8340D62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315C6-6BB7-48C0-B763-953E2342E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