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13525"/>
        <c:axId val="90599927"/>
      </c:barChart>
      <c:catAx>
        <c:axId val="29613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99927"/>
        <c:crosses val="autoZero"/>
        <c:auto val="1"/>
        <c:lblAlgn val="ctr"/>
        <c:lblOffset val="100"/>
        <c:noMultiLvlLbl val="0"/>
      </c:catAx>
      <c:valAx>
        <c:axId val="90599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13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316-3DC0-4961-BE77-28CC1590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E14-5FCE-456B-BE03-422AB9E0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DB4-2758-467A-8B3B-C32CB36B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975-A8B4-4EF0-8E7B-26B91FB3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AD6-1BFD-44DD-BD7F-8C3259D0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355-C590-43F8-BB86-551FDE6F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13D-5FD3-43B9-9963-E94D7448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321-9F12-4BCF-AC3B-EE04908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66F-4C6B-4F05-86EA-B9E65060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ED7-6A2B-4BC3-AD7F-A823B2F8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40B-773E-4B73-901D-AA057F0B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2C1-B377-49EA-94F1-4A09EC5F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2DD12-2359-4FD4-B8F7-F0CA5589C9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