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635543"/>
        <c:axId val="68052209"/>
      </c:barChart>
      <c:catAx>
        <c:axId val="56635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52209"/>
        <c:crosses val="autoZero"/>
        <c:auto val="1"/>
        <c:lblAlgn val="ctr"/>
        <c:lblOffset val="100"/>
        <c:noMultiLvlLbl val="0"/>
      </c:catAx>
      <c:valAx>
        <c:axId val="680522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35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2613-169B-4C8B-87EA-ED430FCA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0BA3-EC46-4393-B222-75C01352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809-6639-42C7-8743-394A2C4F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B1E7-8C70-4D69-98AB-83031030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1656-44FF-4666-AFCB-D0EE1BE4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A02D-5E4C-4D16-8F9C-A4AF2072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6BF8-F05D-4E94-96EF-FB21EF21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6565-9119-4B99-AFBC-5743E6B1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022-6248-4D32-AC13-A6E10C2E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D6EB-FB72-48FD-823A-55423D5D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4F00-655F-427C-9D40-9FA3D074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533-2D0D-4E32-9376-4A3DD14D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0DE83-C166-4BC6-BD92-3C1FC45D2F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