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750743"/>
        <c:axId val="39010285"/>
      </c:barChart>
      <c:catAx>
        <c:axId val="687507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10285"/>
        <c:crosses val="autoZero"/>
        <c:auto val="1"/>
        <c:lblAlgn val="ctr"/>
        <c:lblOffset val="100"/>
        <c:noMultiLvlLbl val="0"/>
      </c:catAx>
      <c:valAx>
        <c:axId val="390102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507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5BEF-3F87-4223-8B2C-5DABDAF8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9AC0-0519-4CAB-8A3B-D419C734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CD29-55CD-4781-B387-087C9442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E2DB-B962-4214-B9DF-3C5D573DD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19C0-DEF0-47EC-A156-E2C3656E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77D1-948C-4F0E-AFAB-7ABD359E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4B0C-96A8-42BB-A248-CB786C88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5DEC-5610-46F3-BC1B-36C32819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7969-84FA-4902-A7C8-13839D3E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D844-096F-48AD-940B-A1505A41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A4A3-85C0-44A6-949B-9A6CE9AF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24D8-1018-4D21-B3A9-E1700BDA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6160D-EF06-4E10-B78A-185BC49E00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