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695406"/>
        <c:axId val="16717824"/>
      </c:barChart>
      <c:catAx>
        <c:axId val="776954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17824"/>
        <c:crosses val="autoZero"/>
        <c:auto val="1"/>
        <c:lblAlgn val="ctr"/>
        <c:lblOffset val="100"/>
        <c:noMultiLvlLbl val="0"/>
      </c:catAx>
      <c:valAx>
        <c:axId val="167178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954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EC5F-E202-4B6D-9666-0F148D00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D570-A43A-4D77-AEBD-8E865A4B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05DC-131B-47B8-90E4-6FE9FE26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6342-B24C-4EC0-A23D-3778B532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FC46-713A-4147-A1AB-6196B5F9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4621-587A-497D-81CA-82F4C24C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D037-6C87-4A04-99C8-6180C632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ED53-98ED-4CD6-BAA0-BCC245F0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429A-383C-4B70-98EB-C50C1460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75BA-29FD-4069-A04D-68FDCF5C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C5F1-7C12-45E6-96DC-8B98CDEC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9F48-359D-42C3-B7A3-4FD2C764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13563-A49B-432E-B44A-FBFB133F27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