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19406"/>
        <c:axId val="74754173"/>
      </c:barChart>
      <c:catAx>
        <c:axId val="80019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54173"/>
        <c:crosses val="autoZero"/>
        <c:auto val="1"/>
        <c:lblAlgn val="ctr"/>
        <c:lblOffset val="100"/>
        <c:noMultiLvlLbl val="0"/>
      </c:catAx>
      <c:valAx>
        <c:axId val="74754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9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E0E-E97D-496A-8675-F324DCBD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20C-218C-4991-8D18-16D51B92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8C2-20E4-4E36-8844-C26AD9EC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59-4845-47D4-93E8-C17A8581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485-3223-4950-B69A-6ADC892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21B-E387-4333-B6D0-84DCC4B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B9C-B12C-4AB5-B328-7A24656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C00-830D-4805-A9A2-3D590A51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01A-03A8-41A7-B8F3-E5D10C4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386-EEF3-4F4C-9B58-73155BA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CEB-52C9-4E94-A4FC-390E854E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0F9-591A-4A57-9638-D91D59D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14BAF-B5B2-437B-9A4C-EF26503E9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