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98118"/>
        <c:axId val="80768074"/>
      </c:barChart>
      <c:catAx>
        <c:axId val="163981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68074"/>
        <c:crosses val="autoZero"/>
        <c:auto val="1"/>
        <c:lblAlgn val="ctr"/>
        <c:lblOffset val="100"/>
        <c:noMultiLvlLbl val="0"/>
      </c:catAx>
      <c:valAx>
        <c:axId val="807680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981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056-9A1F-42F6-B335-7B0AEAA0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3E6-F123-4DA0-87CD-C268D2FF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6B0-3B79-4F57-8B75-53B8B678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4C1-4719-4430-9B54-DD4CEABC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54A9-7AB7-4FE4-A2A1-90555158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E6A-C21D-444D-B52D-5DEF1403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1B33-E212-4530-AE10-F16DCE3B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6D4-FF9B-42BF-B7ED-F614E8B5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F4D-D222-4470-B478-877E1CAA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9EB-4181-4CE6-A643-64E5F330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83E7-AB41-4B1C-A116-4A52E761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30C-99E6-4AC0-9501-5BBF8AA1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4BDA5-1553-4E50-85EF-3B653A1AC5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