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72330"/>
        <c:axId val="8207112"/>
      </c:barChart>
      <c:catAx>
        <c:axId val="57372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112"/>
        <c:crosses val="autoZero"/>
        <c:auto val="1"/>
        <c:lblAlgn val="ctr"/>
        <c:lblOffset val="100"/>
        <c:noMultiLvlLbl val="0"/>
      </c:catAx>
      <c:valAx>
        <c:axId val="8207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2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7D3-15CB-4DD7-A75D-6D1CCB85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AD5-2ED6-484B-8883-1B3753AA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9560-7FD0-45D4-A172-A4FC4C21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2BB-F04E-4465-8FCC-D14790A4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F2B-F54E-4120-9B06-54CD4933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DB7-8892-4C05-BC1B-2FD230A5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98E-3B6B-4B92-8D2E-848EAECB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E63-218A-44DF-A758-BEF50AD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724-6060-4963-A60F-5351AFA7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954-0C23-4737-835D-00362916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156-CE4C-4B04-87A0-2AD6E13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E1D-9AE7-40A0-AF8E-0148CAF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72B5E-A249-4833-8E40-96D3DAD2FF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