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46959"/>
        <c:axId val="95390651"/>
      </c:barChart>
      <c:catAx>
        <c:axId val="260469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90651"/>
        <c:crosses val="autoZero"/>
        <c:auto val="1"/>
        <c:lblAlgn val="ctr"/>
        <c:lblOffset val="100"/>
        <c:noMultiLvlLbl val="0"/>
      </c:catAx>
      <c:valAx>
        <c:axId val="95390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469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539-DD5A-4A1A-AC4B-A23F4EC9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E25F-C1F5-4E70-A8CE-B41EEF25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5D9C-397C-4E7A-9828-5B7DD93C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FE9-97F5-4E0A-9E0F-3ED7E7C3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990-80CD-48AC-9041-4A896022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A978-5CE8-4C6A-853A-780CEF48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41ED-4F5C-4BBD-A5C1-8947E92D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4646-A430-46EA-BCD9-2D8B23D2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EB8-3035-43BD-A26C-708F3A99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222F-5D22-4968-AADA-B64BB3AD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60AE-7C05-45F1-A61F-B8B0C8B5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D788-8E5B-4F9D-BDBF-0A46A351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12180-0DE9-4C32-846C-81F473C07D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