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068097"/>
        <c:axId val="68092170"/>
      </c:barChart>
      <c:catAx>
        <c:axId val="580680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92170"/>
        <c:crosses val="autoZero"/>
        <c:auto val="1"/>
        <c:lblAlgn val="ctr"/>
        <c:lblOffset val="100"/>
        <c:noMultiLvlLbl val="0"/>
      </c:catAx>
      <c:valAx>
        <c:axId val="680921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0680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3862-7102-4AE0-8267-B50CFC47B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1431-A8A9-46FE-99D1-5EBBC7D6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D9F9-5185-4E76-9DBA-9FC6D0389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385A-88EC-41BE-98F4-F60D16626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5E1D-BB19-4CE3-AEA7-3B46A16B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80AF-9FBC-4D37-8B93-723BC84F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A4C2-E6BE-43AF-AA13-47DFA89E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F320-0E73-4814-87D1-B55DC2F0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7096-0A82-4943-8835-03CFE8FE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40A9-AAEA-4130-8830-9A62229C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740F-2158-49FF-9781-1077E454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48E7-C72E-477B-9810-5696C622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DB133-68B5-4CC5-9A3D-F388985B48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