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09367"/>
        <c:axId val="42319220"/>
      </c:barChart>
      <c:catAx>
        <c:axId val="55509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19220"/>
        <c:crosses val="autoZero"/>
        <c:auto val="1"/>
        <c:lblAlgn val="ctr"/>
        <c:lblOffset val="100"/>
        <c:noMultiLvlLbl val="0"/>
      </c:catAx>
      <c:valAx>
        <c:axId val="42319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09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A22-72F0-47C7-870A-B0689DDD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EF1-4803-4488-A238-3E1AE86F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3D2-135C-46D1-9F99-04CB48F0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306-ABAE-4A81-95C9-36C57629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0A1-0B57-4AF6-9946-832F9FB5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6A4-2B93-4E89-AA21-FC8BB93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EDB-6BCA-4CB9-858B-332C8AFA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9AC-DB64-460F-88DF-AE6F943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B6D-8574-47AB-9595-22BF955D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E3F-807A-4F87-AD45-DD28FF6D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0C5-D3F0-4B7A-B58E-C4D2965D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B3A-8357-4BC3-9C14-86ADB496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CA963-F6DA-4ECE-B88C-AC7B43B68E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