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126"/>
        <c:axId val="43481141"/>
      </c:barChart>
      <c:catAx>
        <c:axId val="325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81141"/>
        <c:crosses val="autoZero"/>
        <c:auto val="1"/>
        <c:lblAlgn val="ctr"/>
        <c:lblOffset val="100"/>
        <c:noMultiLvlLbl val="0"/>
      </c:catAx>
      <c:valAx>
        <c:axId val="43481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A16-8F20-44F3-8C12-61545827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8BC-FC73-412F-A1F1-4DB17E01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BFC-F494-4414-8A81-1007B8C5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E06-C64E-4CDA-B5CA-00AFDBAC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E27-E8EA-436F-A574-C073419E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3FE-03E2-49BF-8663-64F3F167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29B-57B3-420C-A675-CF9BA1E9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1C6-8E5F-4AC8-9C35-F8043EE9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3B4-1393-4111-A68D-D739EFA8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F78-6F28-4824-A693-545593C9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527-B2FF-471A-BB22-327E8148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96F-7B3F-4DB3-B16E-0182B74C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1BF8E-88AB-45C5-B1C7-A595FB1D4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