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70182"/>
        <c:axId val="96234907"/>
      </c:barChart>
      <c:catAx>
        <c:axId val="58170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34907"/>
        <c:crosses val="autoZero"/>
        <c:auto val="1"/>
        <c:lblAlgn val="ctr"/>
        <c:lblOffset val="100"/>
        <c:noMultiLvlLbl val="0"/>
      </c:catAx>
      <c:valAx>
        <c:axId val="96234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70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BC4-C2C1-474B-8833-9F13008F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5A9-760C-4B39-A0A9-1CB38793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A8A-E211-4733-B48A-34684DCC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0BD-8426-4391-B119-FC528776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2CF-413A-419B-BCCC-6C53C028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852-9908-401A-B2DF-74BB5A64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DB9-83FD-491E-9202-42F39144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45A-7B28-4D51-BC7D-3BEE5B6A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AA2-EE83-48F0-82E0-56DE6C53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C00-9A67-4AEA-ACC1-432866BF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684-8648-4926-B7FD-7920A994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2C9-FEC9-486A-BB45-276F860C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718CF-4B7B-4562-9227-A394F3A69B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