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027147"/>
        <c:axId val="29816039"/>
      </c:barChart>
      <c:catAx>
        <c:axId val="27027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16039"/>
        <c:crosses val="autoZero"/>
        <c:auto val="1"/>
        <c:lblAlgn val="ctr"/>
        <c:lblOffset val="100"/>
        <c:noMultiLvlLbl val="0"/>
      </c:catAx>
      <c:valAx>
        <c:axId val="29816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27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D64C-D363-46FA-96BB-3D3C1AAA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C598-8F77-45B6-AA60-21DEB843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542F-CC97-4E02-8C5E-4F6B1647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20E2-F922-4F26-8E5A-B8437C32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FB31-9347-4E23-80FE-9E4400BF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CC45-ADC6-419F-8BFC-C6A6900D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D9B-F330-4355-9547-1CE4279D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C06-D1FE-416D-B2EF-F7683F08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E25F-5B8F-4E66-ACBA-771CBA35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1CB5-77E8-4E71-A833-B5402716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C9F-043B-4C05-A792-070BE630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6662-44A8-4DD1-9F0D-FCA5E875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DBF0F-15E0-46F4-B47C-DED0449513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