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4923"/>
        <c:axId val="45266053"/>
      </c:barChart>
      <c:catAx>
        <c:axId val="7824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6053"/>
        <c:crosses val="autoZero"/>
        <c:auto val="1"/>
        <c:lblAlgn val="ctr"/>
        <c:lblOffset val="100"/>
        <c:noMultiLvlLbl val="0"/>
      </c:catAx>
      <c:valAx>
        <c:axId val="45266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DCE-5244-4F44-B1E5-4CDB2928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332-FD2D-450C-A7D5-95026B67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7B6-082C-4D67-9707-FCB69333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147-A625-4285-B849-6F52F814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5AF-0971-4EBE-8BD7-E6DABAC9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AB9-933E-4B26-932D-E8A6A99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034-C4A0-43C5-BF08-83C1D7B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7AF-973E-41AE-BF32-D14F5805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5D2-ADC4-47E2-9288-B49AFD2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249-88D6-4FE1-98F1-7FF15947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820-8721-4334-9A60-F64966A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296-9AE7-44BA-AABA-F0BE412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1C45-9808-43C3-820A-14F4A1BE1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