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905356"/>
        <c:axId val="22230632"/>
      </c:barChart>
      <c:catAx>
        <c:axId val="40905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30632"/>
        <c:crosses val="autoZero"/>
        <c:auto val="1"/>
        <c:lblAlgn val="ctr"/>
        <c:lblOffset val="100"/>
        <c:noMultiLvlLbl val="0"/>
      </c:catAx>
      <c:valAx>
        <c:axId val="22230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5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C63-598B-4883-9A07-8AE96540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583-A4CC-453A-A0D3-4C3B38FA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625-E2C8-40C7-9BA1-D563F10D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623-A7EE-43B5-A0E2-F126686D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920-7CBD-4D0B-A67F-72950F61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C22-BFF6-4120-9EB8-73C2CF64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8BF-F691-48D1-AEB5-FF83B19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B0E-FAE6-44C9-80DB-DD1DC06D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3375-6EC1-4632-9B51-F69561C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DCE-59B1-4DE2-9582-E9945A2F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00F-23EF-45E5-9DEE-4C7EDDE4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999-A6C7-497F-ABA0-AF1AE35C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375F6-EF6B-4AC6-B281-41DD0F96DE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