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20408"/>
        <c:axId val="37836947"/>
      </c:barChart>
      <c:catAx>
        <c:axId val="84020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36947"/>
        <c:crosses val="autoZero"/>
        <c:auto val="1"/>
        <c:lblAlgn val="ctr"/>
        <c:lblOffset val="100"/>
        <c:noMultiLvlLbl val="0"/>
      </c:catAx>
      <c:valAx>
        <c:axId val="37836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20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464-584F-494F-AFE9-248E1B30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1C9-5A0D-4FF9-8109-5973083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714-2016-42F0-8768-02EB43CC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454-98B6-4583-B9A4-3097D837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D28-E4E7-479A-AD54-1642AC0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4B6-1BBB-481D-ABF9-D7222E9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B62-D223-46D3-AF42-DBAD96C4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157-C080-4923-8357-C89D95A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8B4-6D96-4D08-A52B-9F6B6D6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DA0-AB3C-47EB-AFDB-FE0448D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9FB-468F-46AD-BF78-436BD00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D84-AA6F-4F11-A8B6-0D82446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7C6B-9217-48A8-9A9E-3B986526B2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