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98516"/>
        <c:axId val="59440644"/>
      </c:barChart>
      <c:catAx>
        <c:axId val="2679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40644"/>
        <c:crosses val="autoZero"/>
        <c:auto val="1"/>
        <c:lblAlgn val="ctr"/>
        <c:lblOffset val="100"/>
        <c:noMultiLvlLbl val="0"/>
      </c:catAx>
      <c:valAx>
        <c:axId val="59440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B04-92B2-4738-903F-2F8D2BCA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432-B6FD-44C1-9977-9217A9B7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A5D-45EA-4D60-80DD-9BB3AA61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A09-E4D4-407E-8D24-F1C2B70C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783-4571-46F3-8AAA-5F08751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0F1-8AAC-4C0A-99E7-4F786815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883-98C0-46FA-A5DF-81DB1A17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350-F33A-45FC-8E3F-81BC054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EEB-C2F2-4E38-84CD-13B781D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EA0-DBA8-416D-94C7-3B7C62B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43F-0D8C-4A7F-BD14-35C61E7D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47F-B18B-45C1-B2C6-8B5904E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B597D-17F0-4578-BDD0-277E55352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