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72059"/>
        <c:axId val="77060281"/>
      </c:barChart>
      <c:catAx>
        <c:axId val="11272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60281"/>
        <c:crosses val="autoZero"/>
        <c:auto val="1"/>
        <c:lblAlgn val="ctr"/>
        <c:lblOffset val="100"/>
        <c:noMultiLvlLbl val="0"/>
      </c:catAx>
      <c:valAx>
        <c:axId val="77060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72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587-36FC-4B0B-99A4-D75F8605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F54-8EA6-4B8A-B45E-EB178750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3AF-74BD-4259-B7FE-DD14FB52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FAD-2310-4306-805A-9D8C0EF5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AC0-82F9-4693-9083-0E90DD4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98B-9405-43D0-8A38-59274DC6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968-19FE-4031-8EB0-39AD7DAE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BBE-53F9-45A9-BAB1-4DB175C1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FEB-1683-4863-B617-C690E2CA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80C-5896-47C1-B589-632C9B3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162-EFC7-49A0-B82A-8EF099CB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582-7FB0-4534-859A-F8FDCFFE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EFFF4-FFDB-4EDB-BDDB-BCB4DA1A95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