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562"/>
        <c:axId val="86804103"/>
      </c:barChart>
      <c:catAx>
        <c:axId val="2005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04103"/>
        <c:crosses val="autoZero"/>
        <c:auto val="1"/>
        <c:lblAlgn val="ctr"/>
        <c:lblOffset val="100"/>
        <c:noMultiLvlLbl val="0"/>
      </c:catAx>
      <c:valAx>
        <c:axId val="868041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5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3E8-38D5-49B6-89A2-56BB7A3C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F477-B334-430C-90E3-83E7776E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C3A3-0912-4183-B142-416E5A20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C975-E832-4FBC-A64F-E961D4B6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D119-FCEA-4C17-AE34-268745DB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34EB-0C7C-4254-B208-2964C36F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4B3-07E5-4D0C-BA82-B3ED2067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D24-9264-49E8-B56F-AB364745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1CF0-7463-495D-84DB-E8241A0A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644-7B61-4182-9F64-89AB9810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D857-B9A1-4EE0-AC20-F277A6F3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89E-DE4C-4B0E-90DE-7213A77C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02BEE-19C8-4AED-B389-9D45B5EF12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