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70128"/>
        <c:axId val="18343215"/>
      </c:barChart>
      <c:catAx>
        <c:axId val="95670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3215"/>
        <c:crosses val="autoZero"/>
        <c:auto val="1"/>
        <c:lblAlgn val="ctr"/>
        <c:lblOffset val="100"/>
        <c:noMultiLvlLbl val="0"/>
      </c:catAx>
      <c:valAx>
        <c:axId val="18343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0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B1F-95FE-4EF2-A950-6A0F4289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B3C-302A-4C7C-B79B-9841A42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66B-64EC-4067-8AAD-92559640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4F0-8566-4B11-803E-D0A18175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17F-F4C4-4162-B0FF-5A937BBD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DD9-8484-454D-A32A-548E9F3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5F0-8372-4558-BAE9-D7743F2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CEC-5452-4B22-A1E2-AC50476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008-826A-455D-A7C4-F1374B0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D9D-BA4E-4F44-BF00-0578905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B56-103A-4133-854C-29765255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3A8-E6F9-4B3D-A0D9-D4C0FA3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70D87-D984-47FA-9A62-E045E31C4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