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51853"/>
        <c:axId val="94874596"/>
      </c:barChart>
      <c:catAx>
        <c:axId val="12651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74596"/>
        <c:crosses val="autoZero"/>
        <c:auto val="1"/>
        <c:lblAlgn val="ctr"/>
        <c:lblOffset val="100"/>
        <c:noMultiLvlLbl val="0"/>
      </c:catAx>
      <c:valAx>
        <c:axId val="9487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51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D41-A70C-4AF3-A30E-44ADD757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01D-2097-4AB3-BFE7-FBAB39F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DC6-D86C-4213-94E1-1C955F59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6B-CEC4-4CF8-B6CC-EA62CB5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64E-6BAD-4C4F-8531-7F88788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4B6-1223-4EBC-B273-5198F2E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FB2-9BF0-448B-8C30-65A4DAC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7BE-BA6F-4528-AA8C-C48634A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CA4-9BC5-4371-9AAD-A6F73528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C8E-A939-4F45-81A4-369EC05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492-5B14-4C7A-B67F-ED0E60F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B74-585C-40CD-8002-612865D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D50E2-26BE-423C-A342-871483C66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