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65760"/>
        <c:axId val="65491525"/>
      </c:barChart>
      <c:catAx>
        <c:axId val="685657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91525"/>
        <c:crosses val="autoZero"/>
        <c:auto val="1"/>
        <c:lblAlgn val="ctr"/>
        <c:lblOffset val="100"/>
        <c:noMultiLvlLbl val="0"/>
      </c:catAx>
      <c:valAx>
        <c:axId val="654915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657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38B4-899F-4296-8DA1-3FCC4194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2D2C-0D8D-4C55-8F72-0271571C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1279-7DB1-4036-8EC6-E2EB57C0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079B-7D56-4459-A777-3CFA6D39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FAD-E66D-4A82-B706-6CE0CAA6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94B4-8D30-49CB-9567-9B62B526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BFF4-2AAD-4AF9-B248-8DCF0A47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1C72-75A5-494F-B211-BAB6F4FC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B2D3-2239-47FF-91E4-3974F6A8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F05F-8392-4107-BBFD-C4E15E8F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1F20-A7DD-49D6-A1C9-073D83E3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D132-DBDF-4758-9F75-EABEB3F2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924CD-1667-478D-A411-C3D2218E73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