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93667"/>
        <c:axId val="84457451"/>
      </c:barChart>
      <c:catAx>
        <c:axId val="46493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57451"/>
        <c:crosses val="autoZero"/>
        <c:auto val="1"/>
        <c:lblAlgn val="ctr"/>
        <c:lblOffset val="100"/>
        <c:noMultiLvlLbl val="0"/>
      </c:catAx>
      <c:valAx>
        <c:axId val="84457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93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DC3-2D01-436F-92A0-1536F025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631-063B-4B70-B193-776D8E81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E76-0094-40DD-A5EF-AC3FE273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9DE-FF22-4DD4-9348-581BD70D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C5A-6571-4224-A49C-FAC04291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74C-19F6-4777-84BB-1C95A5D0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33D-1DB9-4B58-8B0F-134628EC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175-679D-49FE-A852-453728BA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DC9-C8EF-4449-AF4D-FACE5096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A99-0EE6-44E8-B606-C5CC80B9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8CE5-3ADD-4590-A3FE-64C12EAE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F96-6FC7-43BB-ADC6-33149C2A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3D450-2829-48D8-83C8-C26BC1F70E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