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340946"/>
        <c:axId val="94714562"/>
      </c:barChart>
      <c:catAx>
        <c:axId val="18340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14562"/>
        <c:crosses val="autoZero"/>
        <c:auto val="1"/>
        <c:lblAlgn val="ctr"/>
        <c:lblOffset val="100"/>
        <c:noMultiLvlLbl val="0"/>
      </c:catAx>
      <c:valAx>
        <c:axId val="94714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40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2FC8-9073-45AE-B2EF-69E47DF6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36D-8CBA-41D9-8264-10349D24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B66D-2B7C-4B61-A8FF-2016758C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AE0-133A-44DE-B32E-E1A2F379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D86-B754-4998-B238-EBA7C81F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E12-9067-47FF-89EC-392361E0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1C4-C908-4796-A46C-5517FB6F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8E1-EDDB-45F2-A640-4B632926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9A49-C22C-4153-86CA-608275AB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968-0AC3-4F05-AFA2-C8A67E5F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E17-4700-454E-9E61-8BE76E47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74DB-E556-47B6-8F32-3D72458A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AE417-154B-4F18-A526-8E7F37C046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