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806769"/>
        <c:axId val="27339091"/>
      </c:barChart>
      <c:catAx>
        <c:axId val="898067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339091"/>
        <c:crosses val="autoZero"/>
        <c:auto val="1"/>
        <c:lblAlgn val="ctr"/>
        <c:lblOffset val="100"/>
        <c:noMultiLvlLbl val="0"/>
      </c:catAx>
      <c:valAx>
        <c:axId val="273390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067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220D-18E8-470F-A0A1-57835282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2949-F36F-476A-8730-41C46134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8757-F67D-4779-878D-3E7800488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ACC7-FB5B-43B0-9933-6B2D3C138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FEFD-DA73-44A2-9E22-0B813FCB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349F-0903-4035-AAB5-7304ABF3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0734-142E-41D6-9AAE-4826744A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EAF5-C059-464B-885E-5D97BA3D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BA1B-7FBB-49B6-B1D2-621C253E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2614-033D-466E-9F63-A84E2EF8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932F-1148-4BD7-8002-7077EEE5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43F6-8D8D-43BF-BF35-C038A2FB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223E9-7061-48DF-8D40-8202A4AAD9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