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11859"/>
        <c:axId val="21833716"/>
      </c:barChart>
      <c:catAx>
        <c:axId val="88211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33716"/>
        <c:crosses val="autoZero"/>
        <c:auto val="1"/>
        <c:lblAlgn val="ctr"/>
        <c:lblOffset val="100"/>
        <c:noMultiLvlLbl val="0"/>
      </c:catAx>
      <c:valAx>
        <c:axId val="21833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1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66-912A-41D0-A91A-8DE95050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E19-F3E7-4711-9A0F-213FDF3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F5B-CE08-4D77-84DF-9DD6346D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C7F-63E1-452E-BC19-63523CC6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7BB-91B2-4C3B-A89C-9AC1AA1F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0D9-3981-430C-83FC-CED4EB32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5B4-5919-45B3-8A3A-93264D2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24A-BACD-4BFA-ACC7-A42BED6F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EFC-6729-449C-978D-EB0BE1AC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CC0-2F02-4FA8-B49D-C31411D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533-DEA9-4C18-B6D0-2DF92FB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DF4-A1AF-4BAA-8FBC-1DF3505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E6448-0CA3-4D13-B7B3-D81B7F4290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