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40027"/>
        <c:axId val="75594519"/>
      </c:barChart>
      <c:catAx>
        <c:axId val="90340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4519"/>
        <c:crosses val="autoZero"/>
        <c:auto val="1"/>
        <c:lblAlgn val="ctr"/>
        <c:lblOffset val="100"/>
        <c:noMultiLvlLbl val="0"/>
      </c:catAx>
      <c:valAx>
        <c:axId val="75594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0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B8B-B86D-436C-9D12-CDB7162C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E04-04A0-4CC8-953B-16F8C7DC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30C-533E-4392-9EA0-C6868C46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45E-DC16-4741-823A-0ABF6E0D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70C-79B2-4F26-AB62-1307D153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651-BDBE-467D-8C60-FE5B97F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0DD-6C9B-4AB3-A6D8-EE969E0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1A5-5D34-4FFF-B3EC-A690514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E73-B174-4B3A-A39B-A18358BD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EDA-F742-433F-B61C-3D822F9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246-F4FD-4BF1-A64F-D37B795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031-A8C1-4A77-A682-D1BF54E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0844-285F-4922-AF0A-8591FB27AF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