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97272"/>
        <c:axId val="84252862"/>
      </c:barChart>
      <c:catAx>
        <c:axId val="220972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52862"/>
        <c:crosses val="autoZero"/>
        <c:auto val="1"/>
        <c:lblAlgn val="ctr"/>
        <c:lblOffset val="100"/>
        <c:noMultiLvlLbl val="0"/>
      </c:catAx>
      <c:valAx>
        <c:axId val="842528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972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75B6-23E7-4758-A6C3-D4781E13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A0DE-FA3E-4331-A1F3-4A5B7502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B305-06B4-4760-9F87-17F60D22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9241-F1A3-491E-902A-ADFA7353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89E0-F2BD-411D-A24D-F6B0093A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7FED-1CB2-4664-9D07-DA0091AC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DDF-52C3-42E8-8D20-D5A2BCA9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782-A0A0-461D-85A2-9BC7940A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F23-3155-45B6-A56E-A34A0CD2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8017-38D3-400C-9B25-73D7CDAE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3581-5C11-48FF-80B5-ABC808C0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2294-3267-462D-9497-9B2F0B7F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3402B-B9DD-434B-A131-6D3B7C0E51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