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6918"/>
        <c:axId val="70885545"/>
      </c:barChart>
      <c:catAx>
        <c:axId val="1236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85545"/>
        <c:crosses val="autoZero"/>
        <c:auto val="1"/>
        <c:lblAlgn val="ctr"/>
        <c:lblOffset val="100"/>
        <c:noMultiLvlLbl val="0"/>
      </c:catAx>
      <c:valAx>
        <c:axId val="70885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6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510-2B1B-43E8-98D7-20502144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43D-96F6-4A88-96F6-BB4CD3BB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0DF-0903-4572-8551-04EA1C09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ECB-53C0-4E1D-8893-B22F6F97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63A-AEC1-49BC-B52B-6C3633B5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0F7-B7B5-420B-A1FB-47B5D514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DF0-D9A5-4188-8DCD-80B33900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F73-38A1-42DD-B3AD-734C4F9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B76-F8A4-4BF0-9470-FFD0BF0F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488-C736-4607-A3AC-6555F807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2F6-37B5-4F10-A00B-7286E84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6A0-9100-4698-AA64-DEFB5E76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D5B3C-1C3A-4945-BF02-D91223B01C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