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44340"/>
        <c:axId val="91282264"/>
      </c:barChart>
      <c:catAx>
        <c:axId val="99844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82264"/>
        <c:crosses val="autoZero"/>
        <c:auto val="1"/>
        <c:lblAlgn val="ctr"/>
        <c:lblOffset val="100"/>
        <c:noMultiLvlLbl val="0"/>
      </c:catAx>
      <c:valAx>
        <c:axId val="91282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44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BD5-C7ED-4CA9-A735-3A236FED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EB3-ED8E-446E-B6E2-A16E196D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F1D-CA46-41AC-AD6B-F6B7AEC8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FEB-3BB9-403B-8ABE-767C5A21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802-EC2C-4533-9CC1-6F5D0609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28A-8005-4A8B-9648-44E4CD4D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105-AEA9-4097-B483-448116AE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309-EDA6-4037-B8D0-630E9C85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A93-BFCA-42A3-8A8E-5144A4A5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257-9D11-4E7C-8C29-22F4F7B8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1AD-755C-4614-B5F8-40806488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7A6-EE9B-4C2D-80E1-966E4B2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3C956-01C2-4B65-8641-CDAC310E47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