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53135"/>
        <c:axId val="66536814"/>
      </c:barChart>
      <c:catAx>
        <c:axId val="36553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6814"/>
        <c:crosses val="autoZero"/>
        <c:auto val="1"/>
        <c:lblAlgn val="ctr"/>
        <c:lblOffset val="100"/>
        <c:noMultiLvlLbl val="0"/>
      </c:catAx>
      <c:valAx>
        <c:axId val="66536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3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069-58DE-498B-B6E5-3666B3F9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2CA-D110-425F-B3C7-3932A44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450-8FC3-4522-8F55-DAA7525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A5E-3EA7-42A8-BA56-9005F437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4AD-1C8A-4D97-84C6-26B942A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C44-B8E8-4949-BDFD-3812C054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963-C577-4421-88FF-F4858A69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5E0-5E65-45A7-B1B6-E1C9C22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004-23D9-4A4E-B05E-22D2BFF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1DB-893D-4833-BB5C-FF1161B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949-6910-485D-8C13-14827AC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4A0-3C05-496D-8487-706D1E6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B2177-BB6E-42B0-941E-0239D736D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