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70761"/>
        <c:axId val="87890866"/>
      </c:barChart>
      <c:catAx>
        <c:axId val="30070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90866"/>
        <c:crosses val="autoZero"/>
        <c:auto val="1"/>
        <c:lblAlgn val="ctr"/>
        <c:lblOffset val="100"/>
        <c:noMultiLvlLbl val="0"/>
      </c:catAx>
      <c:valAx>
        <c:axId val="87890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70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DCC-B630-47A4-ADFF-3FCFE1C9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592-46C8-4529-8E2A-D6DEA792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39B-B2B2-4A4C-9378-AD525CFB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84E-4F6D-4D41-94AD-195BAA58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49E-7567-4385-8C5E-A3B69E2D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85A-A82A-4DD5-86DD-B71964B2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B04-9A8E-48EC-A446-3578D5B4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F15-25D2-4D38-8BED-0E29AC45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08F-906F-4784-BBC4-4A32DB3B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6E2-E02C-4FB5-AD54-8123660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838-AA56-438D-94CE-AED17D6B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128-EDA9-4E63-ABD6-B14EDA86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56957-9DBB-4E6E-A913-9EED9DDA27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