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495545"/>
        <c:axId val="95122411"/>
      </c:barChart>
      <c:catAx>
        <c:axId val="774955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22411"/>
        <c:crosses val="autoZero"/>
        <c:auto val="1"/>
        <c:lblAlgn val="ctr"/>
        <c:lblOffset val="100"/>
        <c:noMultiLvlLbl val="0"/>
      </c:catAx>
      <c:valAx>
        <c:axId val="951224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4955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64A3-CC06-469A-813F-E4EC3472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AE7E-9800-4A24-924B-219DAECAA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B590-9F68-4F50-AA52-F776D0E63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38D-F7E2-4C7D-9BBC-B1A24D1B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6F5C-D730-410D-B5E3-34D557E8C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46F-1339-402A-9AD9-092517A8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C25-F727-48BC-9FE4-71DFCCF92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617B7-6BCF-45FB-92FC-35D44DBE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283-38F1-402E-8D75-B7963485E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6F8-B0C4-481C-A09A-BEAD8885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A522-FFEF-4E77-B36D-231D9F74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1519-C713-46AE-AD6A-D428D001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19A1FC-78A8-419E-8419-F165A2E6512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