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90243"/>
        <c:axId val="69047300"/>
      </c:barChart>
      <c:catAx>
        <c:axId val="72890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47300"/>
        <c:crosses val="autoZero"/>
        <c:auto val="1"/>
        <c:lblAlgn val="ctr"/>
        <c:lblOffset val="100"/>
        <c:noMultiLvlLbl val="0"/>
      </c:catAx>
      <c:valAx>
        <c:axId val="69047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90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FC7-F0D3-4BAA-A1B9-2B5FF6D9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8BB-F1AF-4F3E-8F95-99AA3875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139-1819-400A-9EBD-4275EEFE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333-1FCB-4D50-ABC7-BE9DC107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21B-BE59-4F4B-B140-E8327253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779-FBA0-4F86-9053-3E1B89EE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A70-DDB1-4305-AFB9-A4AA3147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01F-5F3E-4057-94C1-596D101F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2B2-5C37-423D-9421-79C046C9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040-4048-4A77-8415-9DED4829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D58-437B-44C4-89DF-DC7E3C7B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BED-5C78-48B3-8728-C9B45D08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38678-22B2-4CB3-B128-4C1DD4F7B4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