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49018"/>
        <c:axId val="67768399"/>
      </c:barChart>
      <c:catAx>
        <c:axId val="97149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68399"/>
        <c:crosses val="autoZero"/>
        <c:auto val="1"/>
        <c:lblAlgn val="ctr"/>
        <c:lblOffset val="100"/>
        <c:noMultiLvlLbl val="0"/>
      </c:catAx>
      <c:valAx>
        <c:axId val="67768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49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B84-6D81-4EC6-990F-AE6C08DF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A4C-E26B-44A9-987F-336111CB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475-50AD-45CB-8878-C56A858A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9566-B330-4F67-A04B-71D9C9A6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412-3CF1-400D-B677-0EA2D63A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70A-9F58-40D2-A953-DB5C9A81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593-7F4F-44FB-8DD9-CED0DA1E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C1F2-20A5-4AE4-BE1F-13534953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872-D7FB-4DEB-BE22-89B07252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D49-DE0D-4AF7-8956-3738AE4E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0A7-3CA6-4C26-9D27-EAA35EE3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A04B-0FA4-4012-9862-A385EC82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51A02-0014-474E-994C-D44F93B991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