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05870"/>
        <c:axId val="21399151"/>
      </c:barChart>
      <c:catAx>
        <c:axId val="16205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9151"/>
        <c:crosses val="autoZero"/>
        <c:auto val="1"/>
        <c:lblAlgn val="ctr"/>
        <c:lblOffset val="100"/>
        <c:noMultiLvlLbl val="0"/>
      </c:catAx>
      <c:valAx>
        <c:axId val="21399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5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05C-5DC0-453C-8A7D-975C870B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787-5F60-4A37-AF79-448C03AA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9A3-0DA5-496E-AF6E-97C0C657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CA3-3531-4698-B726-7B2F2C50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768-484F-43E4-AE13-A37DBAC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8B1-97D0-4D6D-840F-A79E2F81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CB4-FC58-41B7-B561-C1329866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02A-27A9-483B-9575-829783B8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D3D-A5DD-4F68-BC6A-78DC69D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E0A-244F-4AF5-85BD-4EAF8AA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A31-7767-41CE-8373-6E9D68E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61E-1E41-4113-856D-CA4CAF2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E54DE-BD6C-4ED1-9ABD-EF5264329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